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2073-F4E9-4733-B3AE-3A146028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1306-BB85-4BCF-AC8D-43D6725E76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165D-27E5-40D3-993D-497380529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D519-4EB0-43EF-AF0C-B0BDF3F29A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7AF9-A6D1-4699-9346-55134150C2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6D6-5269-4E86-B157-BB6D4E1E18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AB0-8015-47BC-A5AF-679EEBBD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017-66C0-49F1-8A56-0825B124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3EF-A810-4EC5-9678-0192CCE8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689-355B-493C-9516-5BBD47B7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497-661C-4849-9300-0353C74F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925-41D3-45E8-8BD9-D10DA244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B76-794B-44FA-ABAA-062AAA20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AEC-C20A-4136-92F5-560F24E6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226-A161-41F2-B4D2-21073C94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8E9-3184-4713-8B63-75520D88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A77-E5E5-493E-87EF-AFEB917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29F-3B0F-478B-A16D-F987AA3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FA12-47E2-4F41-8998-C177B22C8B5E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powell@acs-england.co.uk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orld History 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th Gra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rvey Cours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historic – Renaissance (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entury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ught thematically (Religion, Government, Conquest, Geography, Society, Economics and Engineerin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urse Boo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ople and Nations by Mazour and Peop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" name="Picture 4" descr="BOOKCVR"/>
          <p:cNvPicPr/>
          <p:nvPr/>
        </p:nvPicPr>
        <p:blipFill>
          <a:blip r:embed="rId2"/>
          <a:stretch/>
        </p:blipFill>
        <p:spPr>
          <a:xfrm>
            <a:off x="3429000" y="2362320"/>
            <a:ext cx="2238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y Ques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has geography shaped histo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societies organiz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 have ancient religions had such a lasting impac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factors encourage economic and technological develop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have ancient civilizations impacted our own lives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y Skill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reful reading and note-tak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earching and problem-solv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lying historical and geographical princip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p-reading and analyzing geographical docu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ing an argu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ritical thinking and reflective reasoning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ass rul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pec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nes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tenes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ing &amp; Assessme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75000"/>
          </a:bodyPr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ding poli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rticipation gra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says worth double gra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nit tests are double too, but not short tes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ily writing and reading assignments.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pen-note quizze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say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oup and individual projects and presenta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osed-note multiple-choice and essay exam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blem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mail: </a:t>
            </a:r>
            <a:r>
              <a:rPr b="0" lang="en-US" sz="3200" spc="-1" strike="noStrike" u="sng">
                <a:solidFill>
                  <a:srgbClr val="80ff00"/>
                </a:solidFill>
                <a:uFillTx/>
                <a:latin typeface="Comic Sans MS"/>
                <a:hlinkClick r:id="rId2"/>
              </a:rPr>
              <a:t>hknight@acs-england.co.u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nrietta Kn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51:28Z</dcterms:created>
  <dc:creator/>
  <dc:description/>
  <dc:language>en-US</dc:language>
  <cp:lastModifiedBy>IT User</cp:lastModifiedBy>
  <dcterms:modified xsi:type="dcterms:W3CDTF">2010-09-16T16:39:23Z</dcterms:modified>
  <cp:revision>14</cp:revision>
  <dc:subject/>
  <dc:title>IB History</dc:title>
</cp:coreProperties>
</file>